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F87-31FF-4A45-B856-798DDD2C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4A4-DF60-448C-9BED-FFB7E0BA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483-4B53-4387-8BE6-660868AA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77F-AF80-4253-8C1C-549E7360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E73-F783-4FF4-95FB-A709C81C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756-C7E4-4CBA-8BF6-23C01A7A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B6D-C053-4D95-AA16-04A0FD81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B2E-4A77-460A-BEC6-30456B03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367-3BBB-41CF-8C5F-310CB800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15F-67A4-420D-853E-AD8C9BD4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8BB-8868-426E-A2ED-56C0EB15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FAC-B2C8-458B-B7B2-1BD61E28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4077-9C8E-4639-8E74-762DF8F8C1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Introduction to Regress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3E Residual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. Ex 3E, Q.2, 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3E, Q.5, 6, 7, 8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CAS calculator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mbria"/>
              </a:rPr>
              <a:t>Once you have done the least-squares regression analysis on the Lists &amp; Spreadsheet page: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mbria"/>
              </a:rPr>
              <a:t>Move the cursor to the shaded cell in Column E and press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mbria"/>
              </a:rPr>
              <a:t>Ctr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mbria"/>
              </a:rPr>
              <a:t>MENU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mbria"/>
              </a:rPr>
              <a:t>4: Variable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mbria"/>
              </a:rPr>
              <a:t>3: Link To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mbria"/>
              </a:rPr>
              <a:t>And select the list </a:t>
            </a:r>
            <a:r>
              <a:rPr b="0" i="1" lang="en-AU" sz="2200" spc="-1" strike="noStrike">
                <a:solidFill>
                  <a:srgbClr val="000000"/>
                </a:solidFill>
                <a:latin typeface="Cambria"/>
              </a:rPr>
              <a:t>stat?.resid. </a:t>
            </a:r>
            <a:r>
              <a:rPr b="0" lang="en-AU" sz="2200" spc="-1" strike="noStrike">
                <a:solidFill>
                  <a:srgbClr val="000000"/>
                </a:solidFill>
                <a:latin typeface="Cambria"/>
              </a:rPr>
              <a:t>The stat number will vary depending on your calculator and previously stored data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mbria"/>
              </a:rPr>
              <a:t>You can then plot the </a:t>
            </a:r>
            <a:r>
              <a:rPr b="0" i="1" lang="en-AU" sz="2200" spc="-1" strike="noStrike">
                <a:solidFill>
                  <a:srgbClr val="000000"/>
                </a:solidFill>
                <a:latin typeface="Cambria"/>
              </a:rPr>
              <a:t>stat.resid</a:t>
            </a:r>
            <a:r>
              <a:rPr b="0" lang="en-AU" sz="2200" spc="-1" strike="noStrike">
                <a:solidFill>
                  <a:srgbClr val="000000"/>
                </a:solidFill>
                <a:latin typeface="Cambria"/>
              </a:rPr>
              <a:t> against x-value by clicking on the y-axis label and selecting the residual list </a:t>
            </a:r>
            <a:r>
              <a:rPr b="0" i="1" lang="en-AU" sz="2200" spc="-1" strike="noStrike">
                <a:solidFill>
                  <a:srgbClr val="000000"/>
                </a:solidFill>
                <a:latin typeface="Cambria"/>
              </a:rPr>
              <a:t>stat.resid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 residual is the vertical difference between each data point and the regression lin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5" name="Picture 3" descr="Residual 1.jpg"/>
          <p:cNvPicPr/>
          <p:nvPr/>
        </p:nvPicPr>
        <p:blipFill>
          <a:blip r:embed="rId1"/>
          <a:stretch/>
        </p:blipFill>
        <p:spPr>
          <a:xfrm>
            <a:off x="571680" y="3143160"/>
            <a:ext cx="3817800" cy="2214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Residual 2.jpg"/>
          <p:cNvPicPr/>
          <p:nvPr/>
        </p:nvPicPr>
        <p:blipFill>
          <a:blip r:embed="rId2"/>
          <a:stretch/>
        </p:blipFill>
        <p:spPr>
          <a:xfrm>
            <a:off x="4714920" y="3286080"/>
            <a:ext cx="35002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o calculate the residuals for each data point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Calculate th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predicted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value of y from the regression equation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Calculate th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difference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between this predicted value and the original valu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Read Worked Example 8 on p.130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ercise 3E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Calculate the residuals by (y-y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"/>
              </a:rPr>
              <a:t>pred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), i.e. the actual values minus the predicted value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sum of all the residuals always add to zero (or very close to zero after rounding), when least-squares regression is use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Residual Analysi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y do we calculate residuals? Residuals give us more information about the type of regression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f we plot th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residuals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against th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original x-values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e get a pattern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ypes of residual plo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" name="Content Placeholder 3" descr="residual plot 1.bmp"/>
          <p:cNvPicPr/>
          <p:nvPr/>
        </p:nvPicPr>
        <p:blipFill>
          <a:blip r:embed="rId1"/>
          <a:stretch/>
        </p:blipFill>
        <p:spPr>
          <a:xfrm>
            <a:off x="642960" y="221472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4357800" y="271476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mbria"/>
              </a:rPr>
              <a:t>Points of residual randomly scattered above and below x-axis. Original data probably line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9" name="Content Placeholder 3" descr="residual plot 2.bmp"/>
          <p:cNvPicPr/>
          <p:nvPr/>
        </p:nvPicPr>
        <p:blipFill>
          <a:blip r:embed="rId1"/>
          <a:stretch/>
        </p:blipFill>
        <p:spPr>
          <a:xfrm>
            <a:off x="642960" y="1714680"/>
            <a:ext cx="2666880" cy="197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3786120" y="2143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mbria"/>
              </a:rPr>
              <a:t>Points of residual show curved pattern with a series of negative, then positive and back to negative residuals. Original data probably non-line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residual plot 3.bmp"/>
          <p:cNvPicPr/>
          <p:nvPr/>
        </p:nvPicPr>
        <p:blipFill>
          <a:blip r:embed="rId2"/>
          <a:stretch/>
        </p:blipFill>
        <p:spPr>
          <a:xfrm>
            <a:off x="642960" y="4286160"/>
            <a:ext cx="2666880" cy="1943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3857760" y="464328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mbria"/>
              </a:rPr>
              <a:t>Points of residual show curved pattern with a series of positive, then negative and back to positive residuals. Original data probably non-line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n other words, if you see any sort of pattern in the residual plot, there probably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isn’t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a linear relationship in the original data set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5:11:28Z</dcterms:created>
  <dc:creator>08843474</dc:creator>
  <dc:description/>
  <dc:language>en-US</dc:language>
  <cp:lastModifiedBy>08843474</cp:lastModifiedBy>
  <dcterms:modified xsi:type="dcterms:W3CDTF">2011-03-14T06:12:34Z</dcterms:modified>
  <cp:revision>1</cp:revision>
  <dc:subject/>
  <dc:title>Introduction to Regression</dc:title>
</cp:coreProperties>
</file>